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1E8-B596-476A-B99F-63A21913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30B-0FA1-41FB-976C-64101641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4BF69-CDC3-416E-B3DB-141D4321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8A784-1C15-4304-B8C9-A1323355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9E45E-5E50-4BA0-90C9-AFDC6A51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06947-B63F-4D13-809F-FB86330D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2A7A2-22FB-4ABB-AE7B-AFD197A3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77223-B790-4C37-BE3D-84EB582A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B3619-636E-418B-ABE2-38F5D637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03370-7990-4B98-881D-94E1C4C9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3580E-133C-485A-9746-98E06881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40AEF-FFFC-4533-B26E-31A96347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77B-59CB-420A-8B41-C01EA12D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6A63F-67EF-4D6D-9337-314088A5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51332-9828-4341-96E9-EC444A47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A5C75-2065-4F51-8D03-FFD3D874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EE8F2-A2B7-4486-A9BB-5146E350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26FE3-F123-470E-A84B-6BA8DB0E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87BAF-A184-4873-AD08-CD39E8C4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E5622-FFE5-458A-98D0-1121850D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47655-21D0-4BC9-B4B0-5DCE967F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27612-6153-4AE4-8FA2-A84F857E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AF88A-DD4B-4260-BC52-7DEB8744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0D0-C8CE-4EED-BAD3-E7B41C91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5E8FC-E92F-4149-8361-C892A0FF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EDC07-006E-4610-9CB4-0F09006E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229D7-6556-4F86-ACC6-0E62EACC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7C6AE-FA00-484F-B59B-C4BE5428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EA998-DB9D-48BF-B90C-9439308B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884A0-9CF7-44D4-A992-98B6E9AC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F7B71-C723-4E3D-803C-4862B466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92DFD-055E-469F-B2D7-D5455786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2EE99-4812-47E7-B6E5-CEA3F2E4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08F3E-B2A8-4D0D-9B7E-C647548E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7258-2F88-43E0-A461-351B1F06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36294-AD4A-4C68-9057-0140588B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710B6-8326-40FF-BB84-502A5FA2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9DA4F-EB77-43A2-85EF-54AEC81F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743E7-692C-4E91-95D2-E9DD6B63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24051-5577-4022-AA93-52CDAE01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595EA-41FB-4A6F-B7F0-7513A476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2423F-A721-4141-BBE9-4A1A2C9C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9C401-4CF7-40AB-A1A2-F2E29E6C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4542D-EACF-4319-97DC-E22EFBA7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7C193-D3A1-4D5A-8FEA-3B7D1E6A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9DA2-1C9C-4026-BD07-A507BB9D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5A751-D50A-42CB-8E87-414313E7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15073-C047-4E1C-B10B-080EE64B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D9F97-C6E6-4D19-A14F-E55229B5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033E9-6289-48AD-80CE-EEB7539B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FE5E8-6B6B-4F8A-B1BC-249139E7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EDC4B-3250-49E2-A352-7A9E9ACC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DBB76-196C-48CE-84FD-F2802290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1BF92-B948-43B9-8550-827BD270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1299D-D915-4EEA-900F-AAD79752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D7215-FE7C-4538-9BCE-FF3FD1D8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7E61-927D-46FF-9E19-1152A955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93649-522D-4D0B-9112-96EDF617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C1435-A303-42E3-A4F1-4C853024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59811-8F27-41EC-9E00-E8794E90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053E5-43EE-47A1-8C85-7BCA1FA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D611F-E272-4568-8F72-CA531AD7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BD2F8-3A10-416F-B590-3EFDC456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C0B90-4B40-4028-B400-76473CC5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13D3C-8A7D-451B-9335-357BA802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8043B-F0E1-40B4-9445-9D40FFFC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3DB5C-CE96-4114-85C5-82443548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EABE-4849-489C-AF6F-3F30AEAF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686D3-B6D4-4903-8B5D-774E4EA7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EA0AD-CB82-4E16-9672-FA795311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DCDF9-1215-4A45-8416-DFC8DBF8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97318-9896-4625-BD6E-5362985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7FEB2-BAF9-4326-BA33-AF02BABF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AFC75-1EF3-426E-BD7B-A3A12F6B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9854E-1A18-4EB8-B925-124BC38B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042BC-9C7C-41BB-8191-954D87A5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ECFB7-0D40-4C7C-9806-F565E412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EEA7B-99B1-4ED9-9F5F-5C1167FD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657B-E691-4771-9E81-5739621C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F466C-8938-49C8-9691-C77A1FCA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A7BF2-AF88-4A90-ADF7-88FE3296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AA62B-007C-4F19-AF4C-7C8F4B28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3E528-78BC-4178-A806-612948E0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1F1B4-4FA7-45C3-95C4-1FD8066B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F42122-66FE-4851-9E1C-3E221560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AFEECB-6B24-4E1D-816C-AEBAF9C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A718B-E26D-4BE2-B5CB-2403FC85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9D0AF0-9F79-40C0-875D-0A7E2F03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F3C1D-E2E0-4A7E-BCA9-37751EE1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A90E-D374-4D6E-8823-49F35DF4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01BFE3-44F9-4439-8D99-96506414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B8C2A-9462-4C16-8AC7-A6AD1828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582A2-26EC-4B05-B99C-45C2335C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D42A7-D26F-435B-930A-941FBD11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344F0-2704-4302-9D9D-E959738F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AD62C-F324-4802-8D18-9DAEBA3D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11F20-5051-4D81-9D34-B8191F35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45416-2DC0-477E-95D8-F5AECE95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12668-3EDC-4FF5-AC0A-85BCAFE1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52B2C-B196-4667-AF18-292AB1BB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0FA3-7518-4882-BEB1-8ADAC617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DFAB5-F34C-4361-89F8-3A13903E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B656F3-FF8D-4BE2-8C75-2B34AFE5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7ECB6-C475-49B7-95D0-C2CB9FFD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EFE71-A928-4F14-9B22-2E393864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6F297-2425-4BA3-8B07-A7620A6F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804AC-28F1-4AE0-98EB-6C82E13A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E633C-6250-434E-80DF-EF501538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6DD25-3A29-4562-9100-E77B1859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D80CA-4DBE-4DD6-9318-D77B222B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8BE58-9725-40BC-865D-F4EAF5B9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D62-186A-420C-996E-E8A23A51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F0D2-A1F1-498E-A46D-46FB35C5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275D6F-BC87-4EC3-81CF-77F00E64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AADC6-C73C-4687-AE8B-1A07084E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32377C-1517-427D-8BAB-7AB6902A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50D6F-CF52-416B-B822-97534B49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A5700-6736-4A47-871D-6CA9CC2D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FB6F7-BB74-4507-8A0C-0BE967D1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4EF63-4AA7-4DAA-86C6-3F5D53ED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74527C-2834-4C1F-A84B-3810489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0F278-35CF-4DCF-89B0-13D65120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A1678-9F33-4B52-8DBF-BC153109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75EE-8139-4359-8E2D-74D842E3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DE82E-4F10-4F2E-BDED-E67A2564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6B5FA8-CF4A-42B7-8D7E-02AEDED9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D13B60-CAEC-4201-90B2-FDE36072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02DF3-BE03-4EBC-ACD2-2C798848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D4ABCD-D621-471C-815A-F0192CF0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9E99D-EBE7-4535-AFD0-AC428490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F09A72-684F-451E-9F65-C997EA25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88AE6-F708-4281-9A88-BF15C777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EC702B-5BAF-45FB-8B0B-2B47F781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24AA6C-1F32-4DA0-8CDF-7C02E6E3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7433-27EA-439D-8CE5-2C25702E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C2E86-9318-4F16-85B9-C2352C5F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7E3D3-9B5C-45A2-A45B-9A483561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C739B6-7A3F-4803-AB1B-BBB4F338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7E28C1-364C-47A2-BAF6-A802DDEA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F88AE7-670D-4FCB-94FA-1ED68EDF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41BA42-B930-47DF-B107-36C0E523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38A41-A4F3-4DA5-A9BA-5C862DA0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2E34B6-7025-448C-AB09-ABA1D0D0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CB54D7-7CB6-4113-B584-0BD99D05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230839-4449-487C-A9A2-31C4EF1F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A3AF-8CEC-4723-964C-3F6BC4D2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6604AF-8C3F-45C9-B994-D7CD38D9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30D7A-5B77-4A9E-B2F7-F5F94FB0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E859C6-5A8B-43A1-BAA9-3E3F6F07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D0229F-2A47-4E61-8A00-01050752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20F43-1751-458B-8840-1AE09D13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1BFED3-7639-4DA6-9395-AB91116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DF478B-AA64-4C87-9D7E-D5F2312A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656259-2CB4-45C9-B263-184DA98A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2F7B77-1CB7-4A8B-A657-A58E9613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F2E83B-DF77-4590-9C9D-1C3EBC9E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4572-8B8D-4044-B181-7411FA65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E67968-2209-4904-A8EC-9E1B99FD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124B0B-777B-4424-8BFE-19108CC8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D9B164-0DE8-41FC-98B9-DB52BE2B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DAE2B1-B6CF-4AA6-AC45-E6C2140D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F1C1D0-9AA6-4653-B2B4-56F55E0C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A47BC5-9168-44A6-AB73-4719518F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B81414-49FB-4380-8460-86046EE6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8AFA61-171F-4316-8133-AC8F717F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928050-C75F-4789-A055-E2D40764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15ED9B-BC57-43EF-A691-A36462B3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72ED-0128-4E73-A35E-75979F94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7A00A-C698-4184-8958-05ABFBE1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EF689D-29EA-4E4E-BDD2-59511DBA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CF1F0-5429-4EDE-B783-F499383C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78C0CE-3135-4F71-A86C-FABFB0FB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CB4083-E776-499E-ADE4-AC62B578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D8CD9E-4C3F-41AD-A9B6-AA529733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653BCB-52A6-487D-B3BE-F233E7CE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6B794F-3563-40FF-93F2-81234587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A54B94-1B98-4EDC-9ECF-EEB66CE7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A44615-1BF9-41C2-95B5-BCAB198B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992F-E4BC-4F76-9485-C7C8DBDB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47582D-8289-41DA-8D7C-57F624E8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F6C423-C3EF-42C8-914A-35045245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FFD41D-5285-48CD-819B-2AC615B5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22EEA8-C471-4689-B7C2-F9EF6128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104163-9CDE-4E78-A86E-92C3054A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A3EFD1-52A2-45F2-BFC5-4DB78C7D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35F02B-2F69-4CD2-A706-09EC3FA2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7B9FCE-75C3-4029-8AAF-AE6FC074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124777-6A9A-41BF-8FCD-FB966965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E924CA-869E-47BB-B1FA-4A9351FC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CF8A0-9BD7-42A6-B32A-4C7AEC2C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A95EC9-7228-41B2-A983-B3C8F3D6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0360BE-21A9-4765-87B4-FE25D378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3D4CA0-6E1F-4775-A1F2-2CBAD6B7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A26452-9981-4C0C-B192-337D59C6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29E39F-C728-46BD-91B7-591A9C04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FA410D-6DB2-4CEA-AA69-24E8BA9F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6603AF-8060-4413-947B-9DE9FF82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6B8A3-649D-4B30-A4B4-2493EA03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7E8F-473C-43C6-8F8A-E212847B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314-8EFF-4465-8E89-8175975A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48FE-B43D-441E-8ADB-86B4477E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E813-FEAE-4960-9759-3BAF8596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9A786-55CF-46A2-825D-C5DF68E0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CF776-EF62-4D5B-A23E-7EB928E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18A1-153A-4631-9685-C548A521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5729-B8C5-45AF-B3DA-C84ACF92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F009-0D7E-41FA-BE80-EC09B23D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EC5D7-F0C3-4029-B591-68332676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9626C-A745-49DC-909E-3241C9B8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8755-BB2A-4F0D-BDA3-DBA7EBAD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516-5029-4E83-A47D-7458199D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7B47-87F0-4F12-A4D3-FA389DF7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E96DD-6AE6-428E-861A-7FFA2E5A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7B5CB-6F66-40E1-8AF8-3C566B06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A6820-626F-4A0D-B6E8-343E7B44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C7E3B-B3A9-4E95-B3C1-1543DE0A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99F5-001A-4A65-A890-1C83CBA8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C939-1920-4227-AED2-92AE7BA4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ED16-C6D5-4497-AB02-5D120035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D4065-DFC9-49D8-89EF-B8FF8C1B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5FA42-7153-4B02-98C1-C71F8B24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22E-F831-4FAD-86FA-3D5FD092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53188-0F03-40C5-A9C0-424ABBAF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348EF-5B4F-4686-84E4-17DA17D3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B525E-CC30-47BC-9C9F-F5006915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EF787-2434-405D-A464-0F9ED995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D6E05-1F51-49EC-B59F-97FA24DC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D273D-380F-4906-966E-6B695519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2E757-B36B-4073-B463-978473EE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B3F2B-79EC-46D7-8BE9-8455F8D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B644C-2841-467F-A022-F592A42C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3C31C-99BC-4548-AD98-B75BF7FA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623-3AD2-4A89-AF7E-D0CF0A90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63191-CDD5-42D8-A83A-730EA8B2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4387D-AF07-44E6-93CC-3C5A7C7E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3F660-77D7-44BD-8CAA-055A3123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BF6C4-0782-4DDF-8A2A-50CE77BA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1276C-5060-46BF-A4A3-064BD1A8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C8CB9-DB28-4ECA-AA00-E28D092A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E4DD9-4A77-4B52-87F1-716CA96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99AFF-F186-4BF4-9944-F8CFF162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AE003-630D-42C3-97E0-E00039EF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9A1F1-8B4C-4343-8A46-154D538B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DD5-79EA-4AB2-B8C7-C9AE3500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36D83-7814-4AA0-9FC7-22E3044C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C8DE8-82A1-4B97-B95F-B0EBEB66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CA020-9FB1-4095-9626-EE76467A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C950A-8EDD-4FB2-86B8-417C2061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0AEAD-9529-4D8F-BF72-61A5C6AE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415FC-992C-4215-891D-205E139A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164A8-6A31-4B74-9676-B0E071E8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A369A-DDAF-491B-A9F4-9ACFC728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742B8-1176-48CB-83AD-020BD31F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2900D-2E6F-4301-9CD6-73884510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BFB-0D0A-4D56-A1A9-820D0A6E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25B82-E151-46BA-AB23-BAF0B967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13C20-0507-4072-AB65-C599BFCD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CB037-270B-4EF9-8F70-F2734C63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06884-04C7-4360-A6BF-D9BE7D6C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DCC86-1284-4237-ABED-78704646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3BE37-EB2C-43FE-A619-71A9E3F9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65452-955C-4DD1-B448-7812FD15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8292B-383F-427A-ADD0-349BDEEE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55AE8-6FE3-4E45-B248-04885BEF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62229-8087-4063-938B-D1034E29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7F0-2FD0-499B-822C-40340CBC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8B707-3CD3-461C-BC16-BCBF8A50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3F5FB-D53A-4726-9EE9-3388AD35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E41BD-85DA-4F36-A4DF-F48457E8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70245-89DB-48A0-A718-8932FE6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B8959-9AD0-4EF7-8A32-D33F2CF7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A41DF-8214-4791-B5FC-BDC37781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507A7-3F72-43E0-AD57-F7FF46C2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4A84B-78C2-4BE7-A8C6-86468ADE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650F7-8134-425C-815C-C8637F6A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30EE5-08E5-40C3-BD7D-32B7AE64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019E-D5B3-4988-8CEF-5F54F0D032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A16B-1E02-4DFF-857C-0B1FB4FC5C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0582-5657-4F6A-A628-7236241B0C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61C4-2AF5-4A84-A72A-605B67BEA9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3E8E-2078-44B9-A201-2BE2471CE2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DC35-799C-4F55-8198-456A64CEBE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ABC4-8FC6-46F6-B25F-004DF7FE16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9621-A2D0-4E5A-95DC-4B36F968F8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87BA-BFAC-4719-8410-BA6F2D845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DE9A-F227-462F-A9BD-54DDD4B4FB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6D52-911F-45A5-BD3D-AD521DDF56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A786-4643-4B5A-A3D2-E9DD883CC2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D60C-1B78-4E1F-8D96-AD52268230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391B-8282-4269-8BE7-52A776F468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7D59-5B94-4DBC-8EC3-E9231A6E86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4C4E-6BAF-4F08-958B-283D30E838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D9F3-A846-4B71-92C9-3AE917E2B2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9ED4-DC25-4E34-A1E1-87D52EF03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EC0F-FBBD-411A-9B19-3F25BC591E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65B8-FEBD-4BB2-9893-BB3FD304C5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86FA-F122-4850-AD9D-FAF094F90D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BC08-3947-4377-86AF-D468269B47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AD62-36E0-4737-B7C1-CBBFA97106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66F0-6DE3-4B68-AA92-FE89D664C8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CE17-5232-4454-8F83-4E05830021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718D-166B-4A5A-95D5-307FA9974A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CA58-C182-48BA-912D-36AEBD8BA8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DCEF-C0A6-4621-B69D-42204DA861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6466-77AD-401C-8754-79FC4A6C5E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8FC0-8843-4178-9F1B-AE4A6D317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ADC9-7B4D-4308-AD0E-0D177091FD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6757-FC76-4BC1-8C88-1E55424DFF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B7DF-64E2-4A66-B53C-9B10550B3F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C6B8-1034-40B7-BBA0-A3CC2C0F49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6A5F-1869-4272-BB88-7C1CE45FA5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F979-4CAF-49B4-BF62-E4ABB49686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5FE6-FB42-4644-BB11-488938552B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338A-35A1-4761-B714-2F7F2812C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9CD7-CDE8-4370-8BBA-9E3BDB5EB6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76F2-8935-47E8-9586-426F9EA7EF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A5E1-318B-4A5E-BA49-E4E3FADF6F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88B7-0C30-40BF-AB48-2ACB791C61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595600" y="2909880"/>
            <a:ext cx="39528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68120" y="914400"/>
            <a:ext cx="8809200" cy="56102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8642160" cy="406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250920" y="5313240"/>
            <a:ext cx="8642160" cy="4064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250920" y="6021360"/>
            <a:ext cx="86421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09520" y="1976400"/>
            <a:ext cx="8724960" cy="2905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250920" y="2017800"/>
            <a:ext cx="8713800" cy="406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179280" y="2752560"/>
            <a:ext cx="8713800" cy="40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179280" y="3487680"/>
            <a:ext cx="8713800" cy="406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201600" y="4221000"/>
            <a:ext cx="87138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28600" y="1700280"/>
            <a:ext cx="8686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85760" y="781200"/>
            <a:ext cx="877104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09520" y="820800"/>
            <a:ext cx="8724960" cy="57038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5076720" y="1643040"/>
            <a:ext cx="3816360" cy="4064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250920" y="2363760"/>
            <a:ext cx="381636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4"/>
          <a:stretch/>
        </p:blipFill>
        <p:spPr>
          <a:xfrm>
            <a:off x="2843280" y="3068640"/>
            <a:ext cx="1657440" cy="4064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5"/>
          <a:stretch/>
        </p:blipFill>
        <p:spPr>
          <a:xfrm>
            <a:off x="755640" y="3846600"/>
            <a:ext cx="1657440" cy="406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6"/>
          <a:stretch/>
        </p:blipFill>
        <p:spPr>
          <a:xfrm>
            <a:off x="6012000" y="3817800"/>
            <a:ext cx="266364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7"/>
          <a:stretch/>
        </p:blipFill>
        <p:spPr>
          <a:xfrm>
            <a:off x="5651640" y="4581360"/>
            <a:ext cx="1296720" cy="4064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8"/>
          <a:stretch/>
        </p:blipFill>
        <p:spPr>
          <a:xfrm>
            <a:off x="971640" y="5315040"/>
            <a:ext cx="6121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1" descr=""/>
          <p:cNvPicPr/>
          <p:nvPr/>
        </p:nvPicPr>
        <p:blipFill>
          <a:blip r:embed="rId1"/>
          <a:stretch/>
        </p:blipFill>
        <p:spPr>
          <a:xfrm>
            <a:off x="157320" y="1181160"/>
            <a:ext cx="8827920" cy="44956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7524720" y="13986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3"/>
          <a:stretch/>
        </p:blipFill>
        <p:spPr>
          <a:xfrm>
            <a:off x="7164360" y="213372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4"/>
          <a:stretch/>
        </p:blipFill>
        <p:spPr>
          <a:xfrm>
            <a:off x="7524720" y="358776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5"/>
          <a:stretch/>
        </p:blipFill>
        <p:spPr>
          <a:xfrm>
            <a:off x="250920" y="4335480"/>
            <a:ext cx="3241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176040" y="1108080"/>
            <a:ext cx="8790120" cy="284652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3" descr=""/>
          <p:cNvPicPr/>
          <p:nvPr/>
        </p:nvPicPr>
        <p:blipFill>
          <a:blip r:embed="rId2"/>
          <a:stretch/>
        </p:blipFill>
        <p:spPr>
          <a:xfrm>
            <a:off x="328680" y="4000680"/>
            <a:ext cx="8637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452520" y="2009880"/>
            <a:ext cx="82375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152280" y="1028880"/>
            <a:ext cx="883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71440" y="985680"/>
            <a:ext cx="85996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0:0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